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53C0-A20C-476E-BFA4-D2253981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747D-DDC3-413B-B062-692936BD2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9538-F88A-4DA3-A8E4-70BEAE9A1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C88B-87A5-4847-9B83-0176DCF6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A546-D8E7-424E-9670-B4704F9BC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BE32-DB30-4845-AC15-01507F036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587A-60FF-4A42-9DE0-4B5FD8DBD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1EF4-3A60-4F8E-B3DE-EA61574DA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4270-9F87-4512-A372-B413933D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8F21-DE74-47A6-8D85-3C197D604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1790-04C9-4C9D-895E-170844C64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64A3-7CEF-47DB-BC9F-9757BC163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8158-5CE4-4CC5-8E2A-D9A59A3EB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FDE-E1E4-4209-BEE8-D1F9540B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CD0-87EC-46E0-94C4-81A8CEA9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0A8-59DB-43F2-93D7-1580CF20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7F8-0540-4277-8A76-370CB826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3D1-3694-41D5-AF52-B6782411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FD4-6DAB-4B26-82AD-DAF602FB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97A-6A33-478D-9E51-7219A9CD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20B-BA8D-4DF3-B509-6E30DA83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42C-34D0-4368-A0D5-0156FAD2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B4A-DBDA-4742-97C0-3A09641B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C58-4E3E-4F49-93C4-B21B5F44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829-E2C9-4C8A-B7EE-7CE0738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DA84-4282-4905-A3C0-A1B5A8544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lait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444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3915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500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’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p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81680" cy="4461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cou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457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etits 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3803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746964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’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01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62228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conc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403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762228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 mango et la papay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867280" cy="4421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2:07:27Z</dcterms:created>
  <dc:creator>Cassandra Celaya</dc:creator>
  <dc:description/>
  <dc:language>en-US</dc:language>
  <cp:lastModifiedBy>Administrator</cp:lastModifiedBy>
  <dcterms:modified xsi:type="dcterms:W3CDTF">2010-06-28T18:58:00Z</dcterms:modified>
  <cp:revision>8</cp:revision>
  <dc:subject/>
  <dc:title>la lechuga</dc:title>
</cp:coreProperties>
</file>